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3868-061D-49C0-8DAF-B6FCE981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32A1-269E-4489-9908-79F04E03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341F-3FB3-40C5-B5BD-32AFFEC3B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D208-3822-4F26-BB14-FFEB9949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9EB2-CF94-4957-9A34-828326617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5A4B-8ABF-4C09-83EE-2A2CA541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B607-C501-43CD-9BA5-8F5AE619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FC2C-A427-4054-816E-28558292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86EB-1E6F-4DC2-92DC-FEB6CDD2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B51E-CEF9-4FA3-A2EA-D6D5460E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B100-3F8D-4DE5-BABA-F3C40902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39E4-EAB8-4ABB-A165-56EA0CD0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AE3A-B2CB-47B1-8678-1E9EDFC2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629C-5063-4CA7-85D1-A33E593C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1538-2689-4E29-8EA7-412C06DE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82A1-9925-4490-93EB-6699192E8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EC22-739C-4E3B-BBBB-806B270E7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79FE0-5E5A-4C50-A111-71C3DC64D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0F024-398B-42F5-90DB-E3EFC6E6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9062C-BD9D-4DEB-B8EE-CC734CA9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6FA18-D5D1-48A2-960C-8A84774D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55E13-2578-4C3C-8183-AF396021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EC42-54F5-4139-AA17-286EB39E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5EC10-3A22-4C52-83F9-D60D8EF2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9BC5B-46FE-42D4-AFCE-0318FECE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D80C6-FA52-4D1E-A3C2-59BE141D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12345-81EA-4AD6-AD0F-0C361FBD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0BB2E-4F5F-4135-8536-FACE2B0E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098FB-9BD5-4710-B025-56EB54B1C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3C493-E1D7-4825-97D9-FC92E7D99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F1D55-1776-4A29-B32B-752269BB3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3D994-C297-4A74-B6C0-76199031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6A8FA-9C99-46DE-91CA-06B95D02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93C4-D3C4-4F4C-8A54-0F54F937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59D10-FE25-4923-8921-4B08F77A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4458A-AEED-4042-9ED3-8AEAA638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D0AA0-C90D-4AA8-BEB2-8D334899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79B19-09B0-435E-8159-3896F26E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4B9A7-59AE-444F-9DF6-8871918F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62006-8428-4853-9BD7-06CC9868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96D47-05CF-4D44-8B55-1EB05BA1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F4268-7D98-4227-B9FD-1CE4E954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E5B2D-FB61-4D6E-BA64-5C703832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D792E-3E91-4C2F-8D54-2B99670D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9522-07FA-4350-8BC5-2E806D2F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0620A-0EC5-471C-B7CB-4EFBBEE6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D37C5-62B0-4594-870E-1C63CD0E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C1097-33C9-4B95-BB83-FEA59A4D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15F67-8A05-43E8-BC99-EDB0E0D3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B3945-C1D3-4D70-B4D1-BFF1D82A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3E583-138A-4FB7-81AA-9321B7F2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0A7F4-F997-4173-B993-BF2B3230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5E3B0-CB99-41CF-9196-BE8109C2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FC0E8-3D15-4A20-B4A9-056CD59D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E4630-4CA0-4246-A827-345845C1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2B83-C389-4042-A3DE-E2E8B36B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7121C-4F12-428F-BD13-ED604C43E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9AEA0-D59B-4BBF-BD2F-48F13C6C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0EF3E-1025-4CFD-8C4C-AFD013C1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960E6-2B7D-468E-AD3F-EBDC54B2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F28A1-7319-44BF-8D58-2EC88633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7C47A-8CC9-46F0-AB8C-17862811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A92E2-D1C7-4ABF-8147-65BA9EBB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C3C48-5392-4FB1-B0BA-3718857C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6E34F-F057-4CAD-891C-C558376B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8FF4D-8A76-46F4-8C54-AE971B54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5DE5-71FE-44C5-90CC-777B396B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A3E0D-A918-4358-9664-4CCD2707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CCCE7-DE78-4D75-894E-59707205C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FD56F-B125-4B6E-B3DF-8660568B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53B5B-AD65-4793-9F6A-B58372990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B8E98-CDCB-48F5-894D-64B2311A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8E32D-F22A-4923-9BA6-8A1A91D5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DCD8F-8D7B-4704-B524-6E36A092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E19B0-AADE-4DAB-AC7D-C9AC0E2B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506F2-D295-4946-92BC-A18BEE28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F3456-3EA7-470E-8CD1-2B7A675A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4BB8-1AFD-4510-96D7-64474675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E6F17-659C-46EB-8661-28127E97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89048-18E9-43BF-9B95-26FA21ED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70A2A-E60E-4BAC-BA28-B488E362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376D9-C7B9-4C6A-BEC7-8689D7A21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56033-8C2D-49B0-B1F0-03DC95A83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D225D-9FE6-47C3-A94D-EE1CE3ED4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4A9A7-5659-4DB0-AE17-DF1F0D2F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FC282-1E35-4111-890B-CA11E4CC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2DC79-944B-476F-9065-E624DE4F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4CC9D-46B4-4FB8-AF54-615E6656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0500-DA40-4E99-B574-A559C52B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6BDBC-3AC5-47C2-BAB2-CD04E2E3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19C46-D8F9-4ABE-8A36-8039330B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24DC5-870E-4ADE-A78C-A1368AD8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FFC84-63A4-4B95-A58F-CCF7CCC8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F2B46-F9AD-48C1-931E-B24CF05C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43156-BAC5-4E07-9E04-37B87F704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BD292-7B4F-4B08-9A86-2F53C7093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2A49-D561-41E2-9C7F-FD912E44A9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56D4-D037-4B1B-9F4E-79B4444363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3DC7-E983-4F86-86B6-5617E77811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481B-C82D-4256-BF41-9C18E7DE91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A8EB-A01D-4B53-98A7-7F98BBBDD5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33DF-388A-4E16-AD38-7E43F50EDC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D6DB-DCBF-4180-91A4-AFA779BBE0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8619-6F2F-446A-8723-3DEAE564DD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youtube.com/watch?v=DjcztiNGg_8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youtube.com/watch?v=2mzDwgyk6Q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Formation of Compound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70c0"/>
                </a:solidFill>
                <a:latin typeface="Lucida Sans Unicode"/>
              </a:rPr>
              <a:t>Answers to the notes outlin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70c0"/>
                </a:solidFill>
                <a:latin typeface="Lucida Sans Unicode"/>
              </a:rPr>
              <a:t>will be highlighted in blue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are the chemical properties of water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ater is a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stable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mpound that doesn’t break down under normal conditions and doesn’t react with many other substance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t acts as a medium for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chemical reactions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o occur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t is important during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photosynthesi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-360" y="148104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Lucida Sans Unicode"/>
              </a:rPr>
              <a:t>Properties of Hydrog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Lightest and most abundant element in the univers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Nonmetallic, odorless, tasteless, and colorless ga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active element, so rarely found as a free elemen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urns into a liquid at -253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°C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Does not conduct electricit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Slightly soluble in wat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1055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Properties of Oxyg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fer back to slide 10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Rectangle 1"/>
          <p:cNvSpPr/>
          <p:nvPr/>
        </p:nvSpPr>
        <p:spPr>
          <a:xfrm>
            <a:off x="3657600" y="54864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2"/>
              </a:rPr>
              <a:t>Combustion of hydrogen and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6858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an you make any conclusions about compounds and the elements that make them up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The physical and chemical properties of the atoms that make up compounds are very different from the compounds they creat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elements to 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reac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atoms of the elements must 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collid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the 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valence electron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f colliding atoms that interact to form compound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member from chapter 3 that the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propertie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of elements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repeat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because the number of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valence electron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repeat in each group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number of valence electrons determines the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chemical properties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f an atom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228600" y="14810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hy are noble gases so unreactive and so stable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ach noble gas (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except for Helium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 has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alence electr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0" lang="en-US" sz="2800" spc="-1" strike="noStrike">
                <a:solidFill>
                  <a:srgbClr val="0070c0"/>
                </a:solidFill>
                <a:latin typeface="Lucida Sans Unicode"/>
              </a:rPr>
              <a:t>octet rule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tates that atoms can become </a:t>
            </a:r>
            <a:r>
              <a:rPr b="0" lang="en-US" sz="2800" spc="-1" strike="noStrike">
                <a:solidFill>
                  <a:srgbClr val="0070c0"/>
                </a:solidFill>
                <a:latin typeface="Lucida Sans Unicode"/>
              </a:rPr>
              <a:t>stable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by having </a:t>
            </a:r>
            <a:r>
              <a:rPr b="0" lang="en-US" sz="2800" spc="-1" strike="noStrike">
                <a:solidFill>
                  <a:srgbClr val="0070c0"/>
                </a:solidFill>
                <a:latin typeface="Lucida Sans Unicode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electrons in their outer energy level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lements become more stable by achieving a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 noble gas configuratio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They do this by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aining, losing or sharing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electrons with other element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w many valence electrons do sodium and chlorine have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odium has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nd chlorine has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w can both sodium and chlorine achieve a full octet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valence electron of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sodium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is transferred to the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chlorine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atom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3"/>
          <p:cNvSpPr/>
          <p:nvPr/>
        </p:nvSpPr>
        <p:spPr>
          <a:xfrm>
            <a:off x="1765800" y="510552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        +          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32"/>
          <p:cNvSpPr/>
          <p:nvPr/>
        </p:nvSpPr>
        <p:spPr>
          <a:xfrm>
            <a:off x="3809880" y="5334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4534200" y="510552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Na ]     +     [  Cl 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34"/>
          <p:cNvSpPr/>
          <p:nvPr/>
        </p:nvSpPr>
        <p:spPr>
          <a:xfrm>
            <a:off x="65530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7396560" y="51055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8"/>
          <p:cNvSpPr/>
          <p:nvPr/>
        </p:nvSpPr>
        <p:spPr>
          <a:xfrm flipH="1">
            <a:off x="6227640" y="5075280"/>
            <a:ext cx="7632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9"/>
          <p:cNvSpPr/>
          <p:nvPr/>
        </p:nvSpPr>
        <p:spPr>
          <a:xfrm flipH="1">
            <a:off x="3360600" y="5210280"/>
            <a:ext cx="76320" cy="7596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10"/>
          <p:cNvSpPr/>
          <p:nvPr/>
        </p:nvSpPr>
        <p:spPr>
          <a:xfrm flipH="1">
            <a:off x="6324480" y="5305320"/>
            <a:ext cx="7632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11"/>
          <p:cNvSpPr/>
          <p:nvPr/>
        </p:nvSpPr>
        <p:spPr>
          <a:xfrm flipH="1">
            <a:off x="3700440" y="5229360"/>
            <a:ext cx="76320" cy="7596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12"/>
          <p:cNvSpPr/>
          <p:nvPr/>
        </p:nvSpPr>
        <p:spPr>
          <a:xfrm flipH="1">
            <a:off x="3624120" y="5073480"/>
            <a:ext cx="7632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13"/>
          <p:cNvSpPr/>
          <p:nvPr/>
        </p:nvSpPr>
        <p:spPr>
          <a:xfrm flipH="1">
            <a:off x="3467160" y="5386320"/>
            <a:ext cx="7632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14"/>
          <p:cNvSpPr/>
          <p:nvPr/>
        </p:nvSpPr>
        <p:spPr>
          <a:xfrm flipH="1">
            <a:off x="3504600" y="5072040"/>
            <a:ext cx="7596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15"/>
          <p:cNvSpPr/>
          <p:nvPr/>
        </p:nvSpPr>
        <p:spPr>
          <a:xfrm flipH="1">
            <a:off x="5992200" y="5275440"/>
            <a:ext cx="75960" cy="7596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16"/>
          <p:cNvSpPr/>
          <p:nvPr/>
        </p:nvSpPr>
        <p:spPr>
          <a:xfrm flipH="1">
            <a:off x="5987880" y="5172120"/>
            <a:ext cx="7632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17"/>
          <p:cNvSpPr/>
          <p:nvPr/>
        </p:nvSpPr>
        <p:spPr>
          <a:xfrm flipH="1">
            <a:off x="3601440" y="5397480"/>
            <a:ext cx="7596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18"/>
          <p:cNvSpPr/>
          <p:nvPr/>
        </p:nvSpPr>
        <p:spPr>
          <a:xfrm flipH="1">
            <a:off x="6095880" y="5397480"/>
            <a:ext cx="7632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19"/>
          <p:cNvSpPr/>
          <p:nvPr/>
        </p:nvSpPr>
        <p:spPr>
          <a:xfrm flipH="1">
            <a:off x="6324480" y="5172120"/>
            <a:ext cx="7632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20"/>
          <p:cNvSpPr/>
          <p:nvPr/>
        </p:nvSpPr>
        <p:spPr>
          <a:xfrm flipH="1">
            <a:off x="6099120" y="5075280"/>
            <a:ext cx="7632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21"/>
          <p:cNvSpPr/>
          <p:nvPr/>
        </p:nvSpPr>
        <p:spPr>
          <a:xfrm flipH="1">
            <a:off x="3360600" y="5310360"/>
            <a:ext cx="76320" cy="7596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22"/>
          <p:cNvSpPr/>
          <p:nvPr/>
        </p:nvSpPr>
        <p:spPr>
          <a:xfrm flipH="1">
            <a:off x="6247800" y="5386320"/>
            <a:ext cx="7596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23"/>
          <p:cNvSpPr/>
          <p:nvPr/>
        </p:nvSpPr>
        <p:spPr>
          <a:xfrm flipH="1">
            <a:off x="2209680" y="5251320"/>
            <a:ext cx="7632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"/>
          <p:cNvSpPr/>
          <p:nvPr/>
        </p:nvSpPr>
        <p:spPr>
          <a:xfrm>
            <a:off x="5046840" y="4944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25"/>
          <p:cNvSpPr/>
          <p:nvPr/>
        </p:nvSpPr>
        <p:spPr>
          <a:xfrm>
            <a:off x="6404400" y="4824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3120" y="1371240"/>
            <a:ext cx="884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en sodium transfers its one valence electron to chlorine both atoms become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charged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particles called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ion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etals (like sodium)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 lose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lectrons and become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positively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harged particles called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cations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Non-metals (like chlorine)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gain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electrons and become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negatively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harged particles called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anions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strong attractive force between ions of opposite charge creates an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ionic bond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 compound that is composed of ions is called an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ionic</a:t>
            </a:r>
            <a:r>
              <a:rPr b="0" lang="en-US" sz="20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compound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0" y="1339920"/>
            <a:ext cx="419112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very + sodium atom attracts every – chlorine atom and vice versa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ions organize themselves into a definite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cube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shaped arrangement called a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crystal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 crystal is a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regular, repeating arrangement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of atoms, ions, or molecule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"/>
          <p:cNvPicPr/>
          <p:nvPr/>
        </p:nvPicPr>
        <p:blipFill>
          <a:blip r:embed="rId2"/>
          <a:srcRect l="3388" t="9306" r="4396" b="0"/>
          <a:stretch/>
        </p:blipFill>
        <p:spPr>
          <a:xfrm>
            <a:off x="3505320" y="5562720"/>
            <a:ext cx="2546280" cy="1131840"/>
          </a:xfrm>
          <a:prstGeom prst="rect">
            <a:avLst/>
          </a:prstGeom>
          <a:ln w="0">
            <a:noFill/>
          </a:ln>
        </p:spPr>
      </p:pic>
      <p:sp>
        <p:nvSpPr>
          <p:cNvPr id="434" name="TextBox 2"/>
          <p:cNvSpPr/>
          <p:nvPr/>
        </p:nvSpPr>
        <p:spPr>
          <a:xfrm>
            <a:off x="5257800" y="1339920"/>
            <a:ext cx="3713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Form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formula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of a compound tells what elements make up the compound and how many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atoms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of each element are present in one unit of the comp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odium chloride = N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odium atom and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 1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hlorine atom make up one unit of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sodium 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en atoms collide with enough energy to react, but neither attracts electrons strongly enough to take electrons from the other atom, the atoms combine by sharing valence electron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lectrons can only be shared to form molecules when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2 nonmetals collide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OTE: Compounds cannot be formed from two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metal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!!!!!!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The attraction of 2 atoms for a shared pair of electrons is called a </a:t>
            </a:r>
            <a:r>
              <a:rPr b="0" lang="en-US" sz="2200" spc="-1" strike="noStrike">
                <a:solidFill>
                  <a:srgbClr val="0070c0"/>
                </a:solidFill>
                <a:latin typeface="Lucida Sans Unicode"/>
              </a:rPr>
              <a:t>covalent bond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A compound whose atoms are held together by covalent bonds is a </a:t>
            </a:r>
            <a:r>
              <a:rPr b="0" lang="en-US" sz="2200" spc="-1" strike="noStrike">
                <a:solidFill>
                  <a:srgbClr val="0070c0"/>
                </a:solidFill>
                <a:latin typeface="Lucida Sans Unicode"/>
              </a:rPr>
              <a:t>covalent compound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(also called </a:t>
            </a:r>
            <a:r>
              <a:rPr b="0" lang="en-US" sz="2200" spc="-1" strike="noStrike">
                <a:solidFill>
                  <a:srgbClr val="0070c0"/>
                </a:solidFill>
                <a:latin typeface="Lucida Sans Unicode"/>
              </a:rPr>
              <a:t>molecular compounds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A </a:t>
            </a:r>
            <a:r>
              <a:rPr b="0" lang="en-US" sz="2200" spc="-1" strike="noStrike">
                <a:solidFill>
                  <a:srgbClr val="0070c0"/>
                </a:solidFill>
                <a:latin typeface="Lucida Sans Unicode"/>
              </a:rPr>
              <a:t>molecule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is an uncharged group of 2 or more </a:t>
            </a:r>
            <a:r>
              <a:rPr b="0" lang="en-US" sz="2200" spc="-1" strike="noStrike">
                <a:solidFill>
                  <a:srgbClr val="0070c0"/>
                </a:solidFill>
                <a:latin typeface="Lucida Sans Unicode"/>
              </a:rPr>
              <a:t>non-metal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atoms held together by covalent bond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Lucida Sans Unicode"/>
              </a:rPr>
              <a:t>Single, double and triple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covalent bonds are possible when 1, 2 or 3 pairs of electrons are shared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8" name="Rectangle 2" descr=""/>
          <p:cNvPicPr/>
          <p:nvPr/>
        </p:nvPicPr>
        <p:blipFill>
          <a:blip r:embed="rId1"/>
          <a:stretch/>
        </p:blipFill>
        <p:spPr>
          <a:xfrm>
            <a:off x="371520" y="274680"/>
            <a:ext cx="840096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chemical name tells you what elements make up the compound: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sodium and chlorine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ere is it found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It is found in large, solid, underground deposits and dissolved in the ocea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w is it used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To enhance food flavor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To melt ice on roadway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4" descr=""/>
          <p:cNvPicPr/>
          <p:nvPr/>
        </p:nvPicPr>
        <p:blipFill>
          <a:blip r:embed="rId1"/>
          <a:stretch/>
        </p:blipFill>
        <p:spPr>
          <a:xfrm>
            <a:off x="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-360" y="1523520"/>
            <a:ext cx="4343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Lucida Sans Unicode"/>
              </a:rPr>
              <a:t>Ionic Compound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Well-organized, tightly bound 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Form crystal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Hard, rough, and brittl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High melting point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Soluble in water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Conduct electricity when dissolved in water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Any compound that conducts electricity when melted or dissolved in water is an electrolyte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5105520" y="15238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Lucida Sans Unicode"/>
              </a:rPr>
              <a:t>Covalent Compound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Attractive forces between molecules are weak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The forces between particles that make up a substance are called interparticle forc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Liquids or gases at room temperatur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Do not conduct electricity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Do not dissolve in water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3712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What are some physical properties of NaCl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hite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 crystalline, solid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t room temperatur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t is</a:t>
            </a:r>
            <a:r>
              <a:rPr b="0" lang="en-US" sz="23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brittl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elts at</a:t>
            </a:r>
            <a:r>
              <a:rPr b="0" lang="en-US" sz="23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800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  <a:ea typeface="Arial"/>
              </a:rPr>
              <a:t>°C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Arial"/>
              </a:rPr>
              <a:t>It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  <a:ea typeface="Arial"/>
              </a:rPr>
              <a:t>dissolves easily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Arial"/>
              </a:rPr>
              <a:t>in wat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Arial"/>
              </a:rPr>
              <a:t>Only conducts electricity in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  <a:ea typeface="Arial"/>
              </a:rPr>
              <a:t>aqueous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Arial"/>
              </a:rPr>
              <a:t>form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  <a:ea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Arial"/>
              </a:rPr>
              <a:t>(dissolved in water) or when melted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SzPct val="125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What are some chemical properties of NaCl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t does not react readily with other substances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70c0"/>
                </a:solidFill>
                <a:latin typeface="Lucida Sans Unicode"/>
              </a:rPr>
              <a:t>    </a:t>
            </a:r>
            <a:r>
              <a:rPr b="0" lang="en-US" sz="2100" spc="-1" strike="noStrike">
                <a:solidFill>
                  <a:srgbClr val="0070c0"/>
                </a:solidFill>
                <a:latin typeface="Lucida Sans Unicode"/>
              </a:rPr>
              <a:t>(it is stable or unreactive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420840" y="128520"/>
            <a:ext cx="843120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Rectangle 4" descr=""/>
          <p:cNvPicPr/>
          <p:nvPr/>
        </p:nvPicPr>
        <p:blipFill>
          <a:blip r:embed="rId1"/>
          <a:stretch/>
        </p:blipFill>
        <p:spPr>
          <a:xfrm>
            <a:off x="281160" y="212760"/>
            <a:ext cx="8339040" cy="15127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17280" y="1523880"/>
            <a:ext cx="3927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Lucida Sans Unicode"/>
              </a:rPr>
              <a:t>Properties of Sodiu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hiny, silvery-white, soft, metallic soli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elts at 98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°C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Stored in oil because it reacts with oxygen and water vapor in ai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One of the most reactive of the common elemen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Always found combined with other elemen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208040" y="1523880"/>
            <a:ext cx="4953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Lucida Sans Unicode"/>
              </a:rPr>
              <a:t>Properties of Chlorin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Non-metallic pale green, poisonous ga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Kills living cell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lightly soluble in wat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sed as a disinfectan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ndenses into a liquid at -34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°C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One of the most reactive elemen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Has industrial importan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Rectangle 1"/>
          <p:cNvSpPr/>
          <p:nvPr/>
        </p:nvSpPr>
        <p:spPr>
          <a:xfrm>
            <a:off x="4114800" y="62118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2"/>
              </a:rPr>
              <a:t>Reaction of Sodium and Chlo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6840" y="148104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chemical name tells you what elements make up the compound: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Carbon and two oxygen atom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ere is it found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In the atmospher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In your bloodstream as a waste product of cellular respiratio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w is it use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It is used by plants to make glucose (photosynthesi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http://www.lifeadrift.info/media/2316/photosynthesis_equation.jpg"/>
          <p:cNvPicPr/>
          <p:nvPr/>
        </p:nvPicPr>
        <p:blipFill>
          <a:blip r:embed="rId2"/>
          <a:stretch/>
        </p:blipFill>
        <p:spPr>
          <a:xfrm>
            <a:off x="4313160" y="5359320"/>
            <a:ext cx="406872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-76680" y="1447920"/>
            <a:ext cx="93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What are the physical properties of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 is a</a:t>
            </a:r>
            <a:r>
              <a:rPr b="0" lang="en-US" sz="24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colorless, odorles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 and</a:t>
            </a:r>
            <a:r>
              <a:rPr b="0" lang="en-US" sz="24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tasteless</a:t>
            </a:r>
            <a:r>
              <a:rPr b="0" lang="en-US" sz="24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a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elow</a:t>
            </a:r>
            <a:r>
              <a:rPr b="0" lang="en-US" sz="24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-80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  <a:ea typeface="Arial"/>
              </a:rPr>
              <a:t>°C,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the gas changes directly to white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  <a:ea typeface="Arial"/>
              </a:rPr>
              <a:t> solid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without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first becoming a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  <a:ea typeface="Arial"/>
              </a:rPr>
              <a:t>liquid (dry ice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It is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  <a:ea typeface="Arial"/>
              </a:rPr>
              <a:t>soluble</a:t>
            </a:r>
            <a:r>
              <a:rPr b="0" lang="en-US" sz="2400" spc="-1" strike="noStrike">
                <a:solidFill>
                  <a:srgbClr val="ffff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in water, but a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  <a:ea typeface="Arial"/>
              </a:rPr>
              <a:t>weak</a:t>
            </a:r>
            <a:r>
              <a:rPr b="0" lang="en-US" sz="2400" spc="-1" strike="noStrike">
                <a:solidFill>
                  <a:srgbClr val="ffff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conductor of electricit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What are the chemical properties of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 is relatively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stabl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 is used in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fire extinguishers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ecause it does not support burning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 is involved in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photosynthesi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457200" y="128520"/>
            <a:ext cx="832644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0" y="12952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14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Lucida Sans Unicode"/>
              </a:rPr>
              <a:t>Properties of Oxyg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1280" indent="-191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Nonmetallic, colorless, odorless, and tasteless ga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1280" indent="-191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1280" indent="-191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Oxygen supports burnin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1280" indent="-191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1280" indent="-191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ecomes a liquid when cooled to -183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°C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1280" indent="-191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1280" indent="-191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Slightly soluble in wat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1280" indent="-191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1280" indent="-191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More reactive than carbon and combines with many other elemen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1280" indent="-191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1280" indent="-191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Most abundant element in the Earth’s crus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6000" y="1295280"/>
            <a:ext cx="447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Lucida Sans Unicode"/>
              </a:rPr>
              <a:t>Properties of Carb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Nonmetallic and unreactive at room temperatur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acts with other elements at high temperatur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arbon burns easily and is a good source of hea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orm a huge variety of compounds (organic chemistry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4" descr=""/>
          <p:cNvPicPr/>
          <p:nvPr/>
        </p:nvPicPr>
        <p:blipFill>
          <a:blip r:embed="rId1"/>
          <a:stretch/>
        </p:blipFill>
        <p:spPr>
          <a:xfrm>
            <a:off x="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152280" y="148104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chemical name tells you what elements make up the compound: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two hydrogen atoms and one oxygen at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ere is it found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t is approximately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70%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f Earth’s surfac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t is about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70%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f the mass of the average human body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w is it used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In chemistry water dissolves chemicals so that can interact with other chemicals to create chemical reaction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hat are the physical properties of water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 is the only 1 of the 3 compounds that occurs in Earth’s environment in all</a:t>
            </a:r>
            <a:r>
              <a:rPr b="0" lang="en-US" sz="24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3 states of matte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 turns into a gas at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100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  <a:ea typeface="Arial"/>
              </a:rPr>
              <a:t>°C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and turns into a solid at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  <a:ea typeface="Arial"/>
              </a:rPr>
              <a:t>0°C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Pure water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  <a:ea typeface="Arial"/>
              </a:rPr>
              <a:t>does not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conduct electricity as a solid, liquid, or a ga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It is called the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  <a:ea typeface="Arial"/>
              </a:rPr>
              <a:t>universal solvent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because it is good at dissolving other substanc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It is important in transport of material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2:56:50Z</dcterms:created>
  <dc:creator>udsd</dc:creator>
  <dc:description/>
  <dc:language>en-US</dc:language>
  <cp:lastModifiedBy>Dawn</cp:lastModifiedBy>
  <dcterms:modified xsi:type="dcterms:W3CDTF">2013-01-02T02:10:49Z</dcterms:modified>
  <cp:revision>56</cp:revision>
  <dc:subject/>
  <dc:title>Chapter 4</dc:title>
</cp:coreProperties>
</file>